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035D-1228-4A89-8570-5A688352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08E7-107E-4EE3-AFDA-04855396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EAD9-F2BB-4EF6-BD21-BBC1B19E4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D39E-F596-4F30-B3A3-BA66A3B29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B77A-AA3F-4143-BC80-147F52A5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1307-A023-4156-A4DA-7A728ECB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7040-6990-448F-8076-A9036276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F5A5-2B1C-470C-95AE-B15A5158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1BA9-9B8E-40FE-B475-2D66B6B1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B96D-1783-46A6-A665-52C5D0EA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9299-582F-4EC7-82D7-F1BB9C6C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37A3-FA2F-41A4-BC33-2FBBB781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4CC3-23A6-45F2-8E20-531D95F48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4-2 da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7621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equal sharing of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295280"/>
            <a:ext cx="8458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in general the electron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on the right side of the periodic table have a greater attraction for electrons than those on the left s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lso, in general, the element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t the top of a group have greater attraction than those at the bottom of a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8954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olar covalent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200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molecule of an element,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the atoms that form a covalent bond have the same ability to attract an electron.  Thus the electrons are shared eq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434340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in a molecule of a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ompound, however, the electrons may not be shared eq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olar covalent bond: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bond in which the electrons are not shared eq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5238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because some atoms hav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greater attraction for electrons, they can pull the shared electrons closer to it than the other at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2860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ow, because of thi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ulling of the electrons (e</a:t>
            </a:r>
            <a:r>
              <a:rPr b="0" lang="en-US" sz="2400" spc="-1" strike="noStrike" baseline="30000">
                <a:solidFill>
                  <a:srgbClr val="cc33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), the atom with the big attraction becomes slightly negative (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δ</a:t>
            </a:r>
            <a:r>
              <a:rPr b="1" lang="en-US" sz="2400" spc="-1" strike="noStrike" baseline="30000">
                <a:solidFill>
                  <a:srgbClr val="cc33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)  &amp; the other atom has a slightly positive charge (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δ</a:t>
            </a:r>
            <a:r>
              <a:rPr b="1" lang="en-US" sz="2400" spc="-1" strike="noStrike" baseline="30000">
                <a:solidFill>
                  <a:srgbClr val="cc33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4290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is a molecule polar or nonpol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0384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ell, if the molecul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only has 2 atoms = always p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46483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ow if mor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than 2 atoms, not so obvio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 factors determine whether a molecule is polar or nonp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14300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Types of atoms in the molec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hape of the molec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7242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ttractions among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nonpolar molecules are weaker than attractions among polar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2133720"/>
            <a:ext cx="8229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lecular compounds,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there are force of attractions between the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ot as strong a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those in ionic bonds, but they are still strong enough to hold together in a liquid or sol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38862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ttractions between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olar molecules are stronger than attractions between nonpolar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2:47:35Z</dcterms:created>
  <dc:creator>jpak</dc:creator>
  <dc:description/>
  <dc:language>en-US</dc:language>
  <cp:lastModifiedBy>Customer</cp:lastModifiedBy>
  <dcterms:modified xsi:type="dcterms:W3CDTF">2009-11-02T13:33:12Z</dcterms:modified>
  <cp:revision>9</cp:revision>
  <dc:subject/>
  <dc:title>Note Guide 4-2 day 2</dc:title>
</cp:coreProperties>
</file>